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4C8D-60B6-4716-8EC5-AE3B00DE8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CA23-0676-46D3-B336-93ECA717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AFD9-F958-4917-8DB7-D96493057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4E09-06DD-4B17-9073-07F8EE2C6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0E75-F324-4C49-88A8-358B6CA71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9D60-7AD9-4062-A93D-76D1C920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BEAF-4C61-4BFE-98CC-887235F0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8E1B-8CCD-4F3E-AE66-640496ED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DF9A-BFA9-4667-BF72-AD8B37E6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0538-3B66-4E1F-8905-D96F9EDC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B5EBA-47DF-426D-80A1-0983B16A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9C84-3005-438F-9CED-078C6B30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D86B3-6FF4-40F3-9F2D-48BC9B24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5F523-ECEE-445B-BE2C-360E0675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CBB6-A949-4B2D-8C1F-F6832CFA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3759-22DC-4F90-9C5C-6ADEC8642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9B19-7ABA-4F75-866F-19FDA135C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AB77C-EC9A-4C51-BD25-72FBB2415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BF60D-45E4-4E04-835C-50E53D75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8F8E8-665A-4AE7-9DB5-7727C478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5CF0B-8D47-4E1E-AB06-EE167DF1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2DC2C-06F8-4834-A5A3-A7A1DF99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3BEA-85A6-40DF-9163-5AFA4956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94EA6-8187-4D34-AC5A-0508778F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855C4-3C44-46B6-88D0-1B33947B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7C9BF-D164-4310-A9E3-07B05CC0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CF756-B19B-4022-8F4E-2CC4F3F7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AA394-C08B-4C3E-8381-FE052CAC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6B675-9556-46BD-B8B9-5DA18631A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43936-3F83-47A6-9C22-28F54C6C3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34D9A-BF89-4B68-BA19-E81EE9CF5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F32D5-0E8D-41E2-BE54-2EC13FB0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F62BD-593D-47C0-A9F9-61A5888A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7DD0-4A4F-46F6-8756-4EDB30BE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44D7F-6053-464B-9AA9-61107E29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9CF15-D130-4CA1-8D12-0C6FFA79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B15E8-D1EF-4F34-9FC9-95D88BF6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DCC5D-921A-4879-9DC6-7B1DEDA8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F488F-DE09-4732-854D-057C52D9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CFE19-C908-4F31-B76C-147B7C82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06BFC-88D2-424A-A875-8A241884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324FC-6375-48DD-9E06-65DEF52CF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86584-9B2B-44E0-81AA-B8F1CFE9F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01A07-6E82-4376-94EF-2538B0EED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85A3-B165-4774-B1AF-671CD336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551B1-DA83-47BB-AE21-1266DC4D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3B043-DA65-4623-8D92-FD1D8079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8E514-8EBD-4D4A-89EA-05BDB485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BF731-CEA2-44BF-AA80-438ECB02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F4B1A-D6D9-4B14-8F17-C9C8694D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F00F9-EBA9-422C-8CB3-E8E44A8C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41C64-B72D-421C-91A2-44412BE1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584A6-9656-4F64-BF1C-209A7E24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24C83-C8D6-4BEA-B55F-AE028BF6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6716A-86FC-44AA-9A36-E5DCFFB24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8ACB-EE08-4552-9B57-BEADC5AD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7125A-BB12-42B0-9CF9-8DE71973A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A7517-FEFB-4373-8918-D464E2266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F67BA-689C-4D92-887C-EC47715D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8786D-830E-4A83-A04B-CDC7811A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7220D-E273-489D-AFA9-32F44B32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83FFB-80BF-482F-ACB2-81B47AB0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80B4F-3FD9-4AAE-9342-85D189BF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60392-DD63-421A-BB50-8EB694AD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C5E2F-2D16-43CC-AED9-5DB19B2B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84A66-9D74-4642-9B0A-BDECA343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7F99-B22A-4DC2-8810-D8A3CE05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61C9E-D58A-49E1-B055-B5A73013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A27A2-D411-4116-B537-BDCFB1BC3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63C5E-6244-4792-8AEA-878EB1550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4ACB4-F6E9-4492-9685-F05434C00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8F250-A1BC-4E7B-A569-736E1F28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CFDC9-2AC0-46A5-8E72-50E86BE2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C92B8-521C-4FFD-AE0D-FBC41561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6BE4B-5CDF-4AA5-B907-0658DAC1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71F2E-E64C-4915-834E-CDC6E535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145DA-5CA8-4CAB-8803-0990152D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3172-47FD-4CE6-88B8-E686A360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EB682-FAFE-44D9-AD99-42554735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D0FBF-7E2D-4866-AC82-B31C22C8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F9DC3-DDC7-4C94-9B5B-98C61CDD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842BA-1BC1-4547-89C1-96C900E2B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44ACB-389F-4C13-A3B9-9A295406A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F9561-9EF1-4F62-819D-FB265CD9C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B7134-1646-4FC2-9048-3D0DF4C53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BD478-A73E-4871-8280-A8453FEF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5FD9D-C046-4F37-AAD8-B0256797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2C736-1055-43B8-9DA4-B1C706BE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99CD-2173-49D8-8708-DB07AB94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3036A-347E-462B-AB22-27C3A737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E30CA-86E9-46FC-BE01-B3F878EE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34D90-54EB-4F90-B3EE-7BC0937F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1A2D5-4EFB-436F-ADA3-80C5E81D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1BA8C-CBCE-4E8E-88B1-99F39985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F3CCB-2114-431C-B400-36ADA922B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45802-451A-4490-A0D3-E6EA1D380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E9B3-D989-42DD-8B07-EEDA0C5E934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90C2-20AC-47FB-AFF2-8A51E2682C0A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C2D1-5A74-432F-9DEC-5FEA8955898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5499-A5DB-4EF8-B0AB-A76C329CB13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680B-F5E2-4631-9A3E-B50B422F0A2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3A66-7DC1-432A-B547-16492E70DC7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3F8D-548D-4082-A872-3F7A09940E8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C331-1EBB-4756-BBE0-48E7D1C04BEF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oBwtxdI1zvk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2" name="Picture 4" descr=""/>
          <p:cNvPicPr/>
          <p:nvPr/>
        </p:nvPicPr>
        <p:blipFill>
          <a:blip r:embed="rId2"/>
          <a:stretch/>
        </p:blipFill>
        <p:spPr>
          <a:xfrm>
            <a:off x="380880" y="2895480"/>
            <a:ext cx="2718000" cy="2286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5" descr=""/>
          <p:cNvPicPr/>
          <p:nvPr/>
        </p:nvPicPr>
        <p:blipFill>
          <a:blip r:embed="rId3"/>
          <a:stretch/>
        </p:blipFill>
        <p:spPr>
          <a:xfrm>
            <a:off x="4800600" y="0"/>
            <a:ext cx="358128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also possible to have a molecule that activates the repress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E. coli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s also capable of synthesizing its own tryptophan via enzym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enzymes are found on the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trp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oper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like before, the presence of tryptophan changes its shape so it fi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, the cell is not going to make tryptophan when in can just absorb i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192240" y="1905120"/>
            <a:ext cx="8951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have discussed the concept that all genes for an organism are found in all cells that contain a nucleu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ut, only the proteins for that cell are “turned on”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ould the proteins for a given cell always be “required” though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ells can respond to environmental cues to regulate which proteins are actually need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have seen this in people living in high altitud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addition to the promoting regions found on DNA, there is also a switch seg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is is called an operato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located between the promoting region (recall the TATA box) and the genes to be express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llectively, all three portions are called an oper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pecific proteins, called repressors, fit into the operat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n there, they block the RNA polymerase from bind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ut, if it is almost always present, how do the genes ever get expressed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repressor is what we call an allosteric molecule – it has two different shap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change is controlled by other molecules that can bind to i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controls whether the repressor can bind or no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66056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0" y="1371600"/>
            <a:ext cx="91821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common example is found in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E. col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actose can be broken down and used by these bacteria by the use of an enzyme called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β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galactosida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Found on a lactose operon, abbreviated </a:t>
            </a:r>
            <a:r>
              <a:rPr b="0" i="1" lang="en-US" sz="2300" spc="-1" strike="noStrike">
                <a:solidFill>
                  <a:srgbClr val="000000"/>
                </a:solidFill>
                <a:latin typeface="Lucida Sans Unicode"/>
              </a:rPr>
              <a:t>lac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oper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y make the enzyme if no lactose is present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actose acts as an induc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t inactivates the represso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, the presence of the sugar induces the expression of the enzyme that metabolizes i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609120"/>
            <a:ext cx="8229600" cy="53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so on the operon is a gene for a membrane protein that facilitates to entrance of lactose into the cel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youtube.com/watch?v=oBwtxdI1zv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4:10:12Z</dcterms:created>
  <dc:creator>ED18</dc:creator>
  <dc:description/>
  <dc:language>en-US</dc:language>
  <cp:lastModifiedBy>ED18</cp:lastModifiedBy>
  <dcterms:modified xsi:type="dcterms:W3CDTF">2012-03-12T14:53:51Z</dcterms:modified>
  <cp:revision>7</cp:revision>
  <dc:subject/>
  <dc:title>Gene Regulation</dc:title>
</cp:coreProperties>
</file>